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053-93EF-42EF-9B35-6DB46C1C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5BF-7196-435D-A517-C5F4A6E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192-0636-491B-A0F8-8954E99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77F-2716-45D9-98F7-4B92359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7B5-A178-4DE4-903C-227D8A3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A72-D95B-4364-8473-7CD1275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D70-6C11-4645-9183-3EF7BA48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CFF-39E9-4147-866B-55757E19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BE9-280C-455F-AF96-3B73CAF8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5B2-6FF4-4DD5-969F-94AD42D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870-587A-4C6E-A92C-8252DB9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359-4074-4FD5-BC1E-B460635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B334-6171-4730-997A-331F5B12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kraftrecipes.com/Products/ProductInfoDisplay.aspx?SiteId=1&amp;Product=4300095562" TargetMode="External"/><Relationship Id="rId4" Type="http://schemas.openxmlformats.org/officeDocument/2006/relationships/hyperlink" Target="http://www.kraftrecipes.com/Products/ProductInfoDisplay.aspx?SiteId=1&amp;Product=4300095562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kraftrecipes.com/Products/ProductInfoDisplay.aspx?SiteId=1&amp;Product=4300095562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228600"/>
            <a:ext cx="6934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oadway"/>
              </a:rPr>
              <a:t>Kool - Aid</a:t>
            </a:r>
            <a:endParaRPr b="1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4724280"/>
            <a:ext cx="4495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eriod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mputer #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2840" y="654192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e 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March 11, 2010.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762120" y="0"/>
            <a:ext cx="525780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 rot="10800000">
            <a:off x="304560" y="5820840"/>
            <a:ext cx="487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raft foods, KOOL-AID POWDERED - SOFT DRINK MIX - CHERRY UNSWEETENED, March 9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raftrecipes.com/Products/ProductInfoDisplay.aspx?Site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&amp;Product=43000955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838080"/>
            <a:ext cx="4648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win Perkins made a company which sold medicines and household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, he produced a line of 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or-Maid” items which were sold door-to-door. One of the most popular,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uit Smack”, also known as Kool-Aid modern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 packed this powdered drink and sold them by envelope at grocery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mand for this product was so high, that Edwin Perkins starte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ing this product. The company was sold to General Foods in 19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nvention: Kool-A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flavors came in strawberry, cherry, lemon lime, grape, orange, and raspbe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Invented in 19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riginally called “Fruit Sm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ackage was sold in 4 ounce. bott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91120"/>
            <a:ext cx="55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         </a:t>
            </a: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This is a modern day version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  </a:t>
            </a:r>
            <a:r>
              <a:rPr b="0" lang="en-US" sz="1800" spc="-1" strike="noStrike">
                <a:solidFill>
                  <a:srgbClr val="ff0066"/>
                </a:solidFill>
                <a:latin typeface="Broadway"/>
              </a:rPr>
              <a:t>Kool-Aid pack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21200"/>
            <a:ext cx="594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Kraft foods, KOOL-AID POWDERED - SOFT DRINK MIX - CHERRY UNSWEETENED, March 9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raftrecipes.com/Products/ProductInfoDisplay.aspx?SiteId=1&amp;Product=43000955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efefe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or: Edwin Per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At age 11, Perkins was sent away for a mixer’s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e married Kitty (childhood sweetheart) in 19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erkins started a company in 19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Died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07:05Z</dcterms:created>
  <dc:creator>install</dc:creator>
  <dc:description/>
  <dc:language>en-US</dc:language>
  <cp:lastModifiedBy>install</cp:lastModifiedBy>
  <dcterms:modified xsi:type="dcterms:W3CDTF">2010-03-18T13:40:57Z</dcterms:modified>
  <cp:revision>10</cp:revision>
  <dc:subject/>
  <dc:title>Slide 1</dc:title>
</cp:coreProperties>
</file>